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561-CD8A-4145-987B-ED0EBF16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66F-FB5F-4F59-8D5A-138E3A4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97B-7651-4D55-B355-5E38FCEE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137-D544-4A24-B33B-D1FDC34D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59E-01AA-48BF-9900-5349F22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826-CEE5-493B-A84C-2616DEA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CA1-011E-46BF-B228-3F8607E8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FBB-CEC6-4BCD-8982-2244BA63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634-D139-4C9C-86A5-6B53467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8B4-2D93-47B4-87C5-9120B17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426-4D25-4228-85C9-1B5E72C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C7D-DD89-4355-9129-5A42F0A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F47-306E-443F-97C5-9BE9A7DC34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表 3" descr=""/>
          <p:cNvPicPr/>
          <p:nvPr/>
        </p:nvPicPr>
        <p:blipFill>
          <a:blip r:embed="rId1"/>
          <a:stretch/>
        </p:blipFill>
        <p:spPr>
          <a:xfrm>
            <a:off x="298440" y="1103400"/>
            <a:ext cx="6254640" cy="4827600"/>
          </a:xfrm>
          <a:prstGeom prst="rect">
            <a:avLst/>
          </a:prstGeom>
          <a:ln w="0">
            <a:noFill/>
          </a:ln>
        </p:spPr>
      </p:pic>
      <p:pic>
        <p:nvPicPr>
          <p:cNvPr id="42" name="正方形/長方形 4" descr=""/>
          <p:cNvPicPr/>
          <p:nvPr/>
        </p:nvPicPr>
        <p:blipFill>
          <a:blip r:embed="rId2"/>
          <a:stretch/>
        </p:blipFill>
        <p:spPr>
          <a:xfrm>
            <a:off x="-146160" y="73080"/>
            <a:ext cx="7120080" cy="80496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C:\Users\ino\AppData\Local\Microsoft\Windows\Temporary Internet Files\Content.IE5\PM7GO6WA\MCj04382470000[1].wmf"/>
          <p:cNvPicPr/>
          <p:nvPr/>
        </p:nvPicPr>
        <p:blipFill>
          <a:blip r:embed="rId3">
            <a:lum bright="26000"/>
          </a:blip>
          <a:stretch/>
        </p:blipFill>
        <p:spPr>
          <a:xfrm>
            <a:off x="5286240" y="6040440"/>
            <a:ext cx="128772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右矢印 7"/>
          <p:cNvSpPr/>
          <p:nvPr/>
        </p:nvSpPr>
        <p:spPr>
          <a:xfrm rot="13405800">
            <a:off x="4420800" y="5930280"/>
            <a:ext cx="857160" cy="5713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87480" y="7404120"/>
            <a:ext cx="671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情報収集層・ぼんやり層は、住宅メーカーからのハードアプローチを嫌う傾向が強く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メーカーへの資料請求や展示場への来場を避ける</a:t>
            </a:r>
            <a:r>
              <a:rPr b="1" lang="ja-JP" sz="1400" spc="-1" strike="noStrike" u="sng">
                <a:solidFill>
                  <a:srgbClr val="ff0000"/>
                </a:solidFill>
                <a:uFillTx/>
                <a:latin typeface="Calibri"/>
              </a:rPr>
              <a:t>潜在顧客群が一定数存在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していま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角丸四角形 9"/>
          <p:cNvSpPr/>
          <p:nvPr/>
        </p:nvSpPr>
        <p:spPr>
          <a:xfrm>
            <a:off x="357120" y="6072120"/>
            <a:ext cx="4000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「広島住宅総合館」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ターゲット先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情報収集層及びぼんやり層</a:t>
            </a:r>
            <a:r>
              <a:rPr b="1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す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0"/>
          <p:cNvSpPr/>
          <p:nvPr/>
        </p:nvSpPr>
        <p:spPr>
          <a:xfrm>
            <a:off x="117360" y="7959600"/>
            <a:ext cx="671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しかし、潜在顧客が顕在化する際、顧客が行うファーストアクションは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総じて住宅展示場へ来場するか、大手メーカーへの資料請求から始まってしまいま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117360" y="8507520"/>
            <a:ext cx="671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「広島住宅総合館」は大手メーカーに先んじて</a:t>
            </a:r>
            <a:r>
              <a:rPr b="1" lang="ja-JP" sz="1400" spc="-1" strike="noStrike" u="sng">
                <a:solidFill>
                  <a:srgbClr val="ff0000"/>
                </a:solidFill>
                <a:uFillTx/>
                <a:latin typeface="Calibri"/>
              </a:rPr>
              <a:t>潜在顧客との顧客接点を図りた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地元工務店・ハウスビルダー様へのご支援目的で制作されていま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32:05Z</dcterms:created>
  <dc:creator>Maruyama</dc:creator>
  <dc:description/>
  <dc:language>en-US</dc:language>
  <cp:lastModifiedBy>YOKOTA</cp:lastModifiedBy>
  <dcterms:modified xsi:type="dcterms:W3CDTF">2010-05-27T02:00:37Z</dcterms:modified>
  <cp:revision>5</cp:revision>
  <dc:subject/>
  <dc:title>スライド 1</dc:title>
</cp:coreProperties>
</file>